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16C-C79E-4A09-94CB-FD7E2DAB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B72-B0DF-4791-9830-E90A9CE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1DA-1B0B-4EE7-8703-5A1E6382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356-AAF3-47FD-9B83-D85D9F98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DF6-D8F4-41AA-A10F-58630920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E41-F8AA-465D-8A90-CA5B7575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C21-5659-440A-B467-E89CC83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66-A6AB-4CC0-846D-F77F72C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1A5-D992-4394-A27E-F351051D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917-FAEE-4305-99F3-2B44E01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F0F-4253-4541-857D-0962129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0B4-4CF5-45D5-8687-084971B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6672-7DBA-485F-8792-9851F9D3B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Baseball.gif"/>
          <p:cNvPicPr/>
          <p:nvPr/>
        </p:nvPicPr>
        <p:blipFill>
          <a:blip r:embed="rId2"/>
          <a:stretch/>
        </p:blipFill>
        <p:spPr>
          <a:xfrm>
            <a:off x="7477200" y="5638680"/>
            <a:ext cx="1312920" cy="8478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1596960" y="4541760"/>
            <a:ext cx="7400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108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INFORMATION, COMMUNICATION AND DOCUMENTATION COMMITTEE</a:t>
            </a:r>
            <a:br>
              <a:rPr sz="3200"/>
            </a:b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(ICD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In Preparation for the 2010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Palarong Pambansa in Tarlac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371600" y="373536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Deo B. Genito, Jr.,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Chris T. Frusa, Co-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John Gregory G. Jabido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Ronnie R. Almia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Ronie M. Espina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r. John T. Dispo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Pole Vault.gif"/>
          <p:cNvPicPr/>
          <p:nvPr/>
        </p:nvPicPr>
        <p:blipFill>
          <a:blip r:embed="rId1"/>
          <a:stretch/>
        </p:blipFill>
        <p:spPr>
          <a:xfrm>
            <a:off x="457200" y="4521240"/>
            <a:ext cx="1471680" cy="180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Boxing.gif"/>
          <p:cNvPicPr/>
          <p:nvPr/>
        </p:nvPicPr>
        <p:blipFill>
          <a:blip r:embed="rId2"/>
          <a:stretch/>
        </p:blipFill>
        <p:spPr>
          <a:xfrm>
            <a:off x="6934320" y="4572000"/>
            <a:ext cx="1952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Standardized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d Form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ches and Chape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rtificate of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idavit of eligibility of athletes by the c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orn Statement on the authenticity and veracity of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Data Sheet (CSC Form 212 Revised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Cert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 X 1.5 Recent Photo Background – White with Name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Standardized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ndardized Forms Requi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hle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-1 : Athelete’s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SO Birth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 13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cate of Enrol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cate of Comple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ental Cons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dical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tal Certif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utline of Presentation for Athletes’/Coaches’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lete’s Information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ches Information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Gall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of Previous Scanned Picture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of Electronic Picture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7632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CTURE GALLE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STANDARD FORM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409680" y="2209680"/>
            <a:ext cx="82008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xel Dimension: 122 X 122 pixe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409680" y="2819520"/>
            <a:ext cx="8200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 Size: 1.7 X 1.7 inch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80880" y="3429000"/>
            <a:ext cx="8201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lution: 72 pixels per i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380880" y="4648320"/>
            <a:ext cx="820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serve “Constrain Proportions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409680" y="4038480"/>
            <a:ext cx="8124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ent photo background: wh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133720" y="4952880"/>
            <a:ext cx="68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4690080" y="4767120"/>
            <a:ext cx="94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7738200" y="4724280"/>
            <a:ext cx="94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5072040"/>
            <a:ext cx="167616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29000" y="5072040"/>
            <a:ext cx="1295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95880" y="5224320"/>
            <a:ext cx="1676520" cy="13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thletes’/Coaches’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lowchart: Multidocument 3"/>
          <p:cNvSpPr/>
          <p:nvPr/>
        </p:nvSpPr>
        <p:spPr>
          <a:xfrm>
            <a:off x="304920" y="1371600"/>
            <a:ext cx="2286000" cy="1295280"/>
          </a:xfrm>
          <a:prstGeom prst="flowChartMultidocumen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Process 5"/>
          <p:cNvSpPr/>
          <p:nvPr/>
        </p:nvSpPr>
        <p:spPr>
          <a:xfrm>
            <a:off x="3657600" y="1371600"/>
            <a:ext cx="2133720" cy="1066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Magnetic Disk 6"/>
          <p:cNvSpPr/>
          <p:nvPr/>
        </p:nvSpPr>
        <p:spPr>
          <a:xfrm>
            <a:off x="7086600" y="1143000"/>
            <a:ext cx="1447920" cy="152388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tp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7"/>
          <p:cNvSpPr/>
          <p:nvPr/>
        </p:nvSpPr>
        <p:spPr>
          <a:xfrm>
            <a:off x="4038480" y="4676760"/>
            <a:ext cx="1447920" cy="152388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tp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Process 8"/>
          <p:cNvSpPr/>
          <p:nvPr/>
        </p:nvSpPr>
        <p:spPr>
          <a:xfrm>
            <a:off x="6629400" y="5105520"/>
            <a:ext cx="2133720" cy="1066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9"/>
          <p:cNvSpPr/>
          <p:nvPr/>
        </p:nvSpPr>
        <p:spPr>
          <a:xfrm>
            <a:off x="304920" y="4448160"/>
            <a:ext cx="2666880" cy="18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depedtfss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04920" y="27068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iou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3657600" y="27068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co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3"/>
          <p:cNvCxnSpPr/>
          <p:nvPr/>
        </p:nvCxnSpPr>
        <p:spPr>
          <a:xfrm>
            <a:off x="2742840" y="1828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16"/>
          <p:cNvCxnSpPr/>
          <p:nvPr/>
        </p:nvCxnSpPr>
        <p:spPr>
          <a:xfrm>
            <a:off x="6019920" y="1828800"/>
            <a:ext cx="76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17"/>
          <p:cNvSpPr/>
          <p:nvPr/>
        </p:nvSpPr>
        <p:spPr>
          <a:xfrm>
            <a:off x="6629400" y="2666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thlete’s /Coache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3733920" y="6172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Athlete’s Coache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304920" y="62769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ploading to the DepED TFSS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6858000" y="628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4"/>
          <p:cNvCxnSpPr/>
          <p:nvPr/>
        </p:nvCxnSpPr>
        <p:spPr>
          <a:xfrm flipH="1" flipV="1">
            <a:off x="5637960" y="563688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5"/>
          <p:cNvCxnSpPr/>
          <p:nvPr/>
        </p:nvCxnSpPr>
        <p:spPr>
          <a:xfrm flipH="1" flipV="1">
            <a:off x="3123360" y="5636880"/>
            <a:ext cx="83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Flowchart: Preparation 26"/>
          <p:cNvSpPr/>
          <p:nvPr/>
        </p:nvSpPr>
        <p:spPr>
          <a:xfrm>
            <a:off x="7238880" y="3733920"/>
            <a:ext cx="1219320" cy="914400"/>
          </a:xfrm>
          <a:prstGeom prst="flowChartPreparation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AC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8"/>
          <p:cNvCxnSpPr/>
          <p:nvPr/>
        </p:nvCxnSpPr>
        <p:spPr>
          <a:xfrm flipH="1">
            <a:off x="7770600" y="3276720"/>
            <a:ext cx="3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9"/>
          <p:cNvCxnSpPr/>
          <p:nvPr/>
        </p:nvCxnSpPr>
        <p:spPr>
          <a:xfrm flipH="1">
            <a:off x="7772040" y="472392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5867280" y="3581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mission to NSAC-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32"/>
          <p:cNvCxnSpPr/>
          <p:nvPr/>
        </p:nvCxnSpPr>
        <p:spPr>
          <a:xfrm flipH="1" flipV="1">
            <a:off x="533160" y="912600"/>
            <a:ext cx="2743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34"/>
          <p:cNvCxnSpPr/>
          <p:nvPr/>
        </p:nvCxnSpPr>
        <p:spPr>
          <a:xfrm>
            <a:off x="5714640" y="914400"/>
            <a:ext cx="289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35"/>
          <p:cNvSpPr/>
          <p:nvPr/>
        </p:nvSpPr>
        <p:spPr>
          <a:xfrm>
            <a:off x="335268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Division/Reg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37"/>
          <p:cNvCxnSpPr/>
          <p:nvPr/>
        </p:nvCxnSpPr>
        <p:spPr>
          <a:xfrm flipH="1" flipV="1">
            <a:off x="532800" y="4265280"/>
            <a:ext cx="297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Straight Arrow Connector 38"/>
          <p:cNvCxnSpPr/>
          <p:nvPr/>
        </p:nvCxnSpPr>
        <p:spPr>
          <a:xfrm>
            <a:off x="5181480" y="4266720"/>
            <a:ext cx="198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Box 39"/>
          <p:cNvSpPr/>
          <p:nvPr/>
        </p:nvSpPr>
        <p:spPr>
          <a:xfrm>
            <a:off x="35812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ntral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LOgoGIF"/>
          <p:cNvPicPr/>
          <p:nvPr/>
        </p:nvPicPr>
        <p:blipFill>
          <a:blip r:embed="rId1"/>
          <a:stretch/>
        </p:blipFill>
        <p:spPr>
          <a:xfrm>
            <a:off x="8381880" y="3657600"/>
            <a:ext cx="5558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ounded Rectangular Callout 32"/>
          <p:cNvSpPr/>
          <p:nvPr/>
        </p:nvSpPr>
        <p:spPr>
          <a:xfrm>
            <a:off x="5715000" y="2362320"/>
            <a:ext cx="3276720" cy="1447560"/>
          </a:xfrm>
          <a:prstGeom prst="wedgeRoundRectCallout">
            <a:avLst>
              <a:gd name="adj1" fmla="val -74287"/>
              <a:gd name="adj2" fmla="val -24675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ular Callout 30"/>
          <p:cNvSpPr/>
          <p:nvPr/>
        </p:nvSpPr>
        <p:spPr>
          <a:xfrm>
            <a:off x="76320" y="4191120"/>
            <a:ext cx="4190760" cy="1981080"/>
          </a:xfrm>
          <a:prstGeom prst="wedgeRoundRectCallout">
            <a:avLst>
              <a:gd name="adj1" fmla="val 26245"/>
              <a:gd name="adj2" fmla="val -92648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eements on the Submission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hletes’/Coaches’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epEd_Logo"/>
          <p:cNvPicPr/>
          <p:nvPr/>
        </p:nvPicPr>
        <p:blipFill>
          <a:blip r:embed="rId1"/>
          <a:stretch/>
        </p:blipFill>
        <p:spPr>
          <a:xfrm>
            <a:off x="657360" y="2286000"/>
            <a:ext cx="1171440" cy="552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335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 flipV="1">
            <a:off x="2057040" y="220932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2057400" y="2819160"/>
            <a:ext cx="19058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2" descr="DepEd_Logo"/>
          <p:cNvPicPr/>
          <p:nvPr/>
        </p:nvPicPr>
        <p:blipFill>
          <a:blip r:embed="rId2"/>
          <a:stretch/>
        </p:blipFill>
        <p:spPr>
          <a:xfrm>
            <a:off x="4238640" y="1523880"/>
            <a:ext cx="1171440" cy="552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5"/>
          <p:cNvSpPr/>
          <p:nvPr/>
        </p:nvSpPr>
        <p:spPr>
          <a:xfrm>
            <a:off x="411480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epEd_Logo"/>
          <p:cNvPicPr/>
          <p:nvPr/>
        </p:nvPicPr>
        <p:blipFill>
          <a:blip r:embed="rId3"/>
          <a:stretch/>
        </p:blipFill>
        <p:spPr>
          <a:xfrm>
            <a:off x="4162320" y="3276720"/>
            <a:ext cx="117180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4038480" y="3809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 20"/>
          <p:cNvSpPr/>
          <p:nvPr/>
        </p:nvSpPr>
        <p:spPr>
          <a:xfrm>
            <a:off x="4876920" y="4876920"/>
            <a:ext cx="3962160" cy="18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depedtfs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22"/>
          <p:cNvCxnSpPr/>
          <p:nvPr/>
        </p:nvCxnSpPr>
        <p:spPr>
          <a:xfrm>
            <a:off x="4799520" y="4191120"/>
            <a:ext cx="6102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3"/>
          <p:cNvSpPr/>
          <p:nvPr/>
        </p:nvSpPr>
        <p:spPr>
          <a:xfrm>
            <a:off x="152280" y="4267080"/>
            <a:ext cx="4191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de and date of Submi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copy and hard copy duly signed by PESS Division Supervisor and noted by the Schools Division Superintendent (SDS) or authorized represent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: end of Januar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29"/>
          <p:cNvCxnSpPr/>
          <p:nvPr/>
        </p:nvCxnSpPr>
        <p:spPr>
          <a:xfrm flipH="1">
            <a:off x="4798800" y="2437920"/>
            <a:ext cx="216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Rectangle 31"/>
          <p:cNvSpPr/>
          <p:nvPr/>
        </p:nvSpPr>
        <p:spPr>
          <a:xfrm>
            <a:off x="5715000" y="2409840"/>
            <a:ext cx="335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de and date of Submi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copy and hard copy duly              signed by PESS Chief, SEU/TF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: Mid of March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t the Official           Palarong Pambansa website @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-36360" y="2305080"/>
            <a:ext cx="9253440" cy="207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DepEd_Logo"/>
          <p:cNvPicPr/>
          <p:nvPr/>
        </p:nvPicPr>
        <p:blipFill>
          <a:blip r:embed="rId2"/>
          <a:stretch/>
        </p:blipFill>
        <p:spPr>
          <a:xfrm>
            <a:off x="4267080" y="819000"/>
            <a:ext cx="1171800" cy="55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586728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PRESENTATI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ank You and Mabuh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1Tennis.gif"/>
          <p:cNvPicPr/>
          <p:nvPr/>
        </p:nvPicPr>
        <p:blipFill>
          <a:blip r:embed="rId3"/>
          <a:stretch/>
        </p:blipFill>
        <p:spPr>
          <a:xfrm>
            <a:off x="4267080" y="502920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33:01Z</dcterms:created>
  <dc:creator>Deo</dc:creator>
  <dc:description/>
  <dc:language>en-US</dc:language>
  <cp:lastModifiedBy>Kaye</cp:lastModifiedBy>
  <dcterms:modified xsi:type="dcterms:W3CDTF">2009-11-23T05:47:21Z</dcterms:modified>
  <cp:revision>87</cp:revision>
  <dc:subject/>
  <dc:title>THE INFORMATION, COMMUNICATION AND DOCUMENTATION COMMITTEE (ICDC)</dc:title>
</cp:coreProperties>
</file>